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508-2C7B-4ACC-BFD6-C6D93E61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1EE-93BD-4E76-8C77-42E55593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E2F-EE16-4DD2-B14F-10BC8AB0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0E8-734B-4958-A1B2-A3A0DF4C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2BF-99E4-488A-ACA1-3954BFBF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1A7-DCE3-4C64-8543-AA8BFB5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3E6-6CB9-41C2-B5E9-63A5BB9C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97D-BB02-4EC6-8D3A-B9E02AA9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DBB-F6DF-4E71-996C-502A322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C8D-D1A0-445D-8742-E8BE63B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2EE-4188-4350-BEFC-0140418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0E6-EB43-4AF8-BEBA-A27D96D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24C-2D4B-4A05-A1F6-A09C54865A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838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Kurze Übersicht der Betrei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685800" y="3124080"/>
            <a:ext cx="9448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bias Hirschmann,    Lukas Lienhart    &amp;    Christian Paie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© 2004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ab8a"/>
            </a:gs>
            <a:gs pos="100000">
              <a:srgbClr val="9ff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416720" y="6281640"/>
            <a:ext cx="1727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" y="1197000"/>
          <a:ext cx="9074160" cy="3976560"/>
        </p:xfrm>
        <a:graphic>
          <a:graphicData uri="http://schemas.openxmlformats.org/drawingml/2006/table">
            <a:tbl>
              <a:tblPr/>
              <a:tblGrid>
                <a:gridCol w="1224000"/>
                <a:gridCol w="1584360"/>
                <a:gridCol w="1800000"/>
                <a:gridCol w="1297080"/>
                <a:gridCol w="1800360"/>
                <a:gridCol w="1368360"/>
              </a:tblGrid>
              <a:tr h="114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</a:tr>
              <a:tr h="74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arb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703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7.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63.2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</a:tr>
              <a:tr h="633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4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,4 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 A1 net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75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s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381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o 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2 Mio 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 ersten Halbjahr 200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55 Mio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83d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44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1faaf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5877000"/>
            <a:ext cx="914400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hlen von 2003. Inklusiv den Werken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Kroati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oweni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chtens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Rein Österreichische Zahlen in Kl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lle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A1.n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;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T-mobile.a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tele-ring.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;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one.a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drei.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2014560" cy="23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13661" r="33333" b="22723"/>
          <a:stretch/>
        </p:blipFill>
        <p:spPr>
          <a:xfrm>
            <a:off x="6372360" y="1413000"/>
            <a:ext cx="1008000" cy="50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127" t="11198" r="7818" b="5530"/>
          <a:stretch/>
        </p:blipFill>
        <p:spPr>
          <a:xfrm>
            <a:off x="8101080" y="1268280"/>
            <a:ext cx="709560" cy="938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484280"/>
            <a:ext cx="1085760" cy="49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www.telering.at"/>
          <p:cNvPicPr/>
          <p:nvPr/>
        </p:nvPicPr>
        <p:blipFill>
          <a:blip r:embed="rId6"/>
          <a:stretch/>
        </p:blipFill>
        <p:spPr>
          <a:xfrm>
            <a:off x="4932360" y="141300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2:44:27Z</dcterms:created>
  <dc:creator>cpaier</dc:creator>
  <dc:description/>
  <dc:language>en-US</dc:language>
  <cp:lastModifiedBy>Bischöfliches Gymnasium</cp:lastModifiedBy>
  <dcterms:modified xsi:type="dcterms:W3CDTF">2005-06-12T08:58:13Z</dcterms:modified>
  <cp:revision>5</cp:revision>
  <dc:subject/>
  <dc:title>Folie 1</dc:title>
</cp:coreProperties>
</file>